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B2B6B-B047-4CE4-B626-C51F3FD74D79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4D6-D46D-46FA-B20B-652ACEB8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69A-78A0-4CE6-BE90-1276588C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FA6-3C3A-47C5-AB44-1EDBB1A2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E15-B5DE-4683-9BBE-48C0BDDE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D22-799E-4793-8699-B86156E8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3BF-A258-4978-8A80-FA4512A3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3EF-42D4-4566-9D8A-A3156C9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CB0-9016-4F03-8DF3-3FA8E433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33E-707F-4454-959A-33E949F6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837-D3B8-4895-BBA0-DF445EF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BC7-1EE5-47AB-A326-60C6648B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E86-7558-4177-A878-45ED7E2E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276FB-634C-4C9C-BB86-854EECD0DE2C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ocial ex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xclusion, or marginalization, is hardly measurable multi-dimensional phenomenon or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rm ”social exclusion” is not accurate or measurable. So how to get to the point? Using inaccurate terms leads to inaccurate nonsensetalk (and nonsensewor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spects of social ex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3600" y="17283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Impact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Leads to unequal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Transfer from parents to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Is connected to many problems: criminality, addictions, poor education, pover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Social exclusion of invidual, family, minorit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ocial determinants of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ere are social factors which impacts the health of inviduals. These factors are sometimes called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social determinants of health, SDOH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e may simple say, that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social exclusion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is one of these key f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me other determinants are, for example, unemployment, stress, addictions and early life circumstan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DOH in Finland: 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561680"/>
            <a:ext cx="6913440" cy="189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Roughly 10k children on cus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3500 emergency placement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96960" y="2989440"/>
            <a:ext cx="73659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From them t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3600" spc="-1" strike="noStrike">
                <a:solidFill>
                  <a:srgbClr val="000000"/>
                </a:solidFill>
                <a:latin typeface="Arial"/>
              </a:rPr>
              <a:t>How to move toward social inclu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3600" spc="-1" strike="noStrike">
                <a:solidFill>
                  <a:srgbClr val="000000"/>
                </a:solidFill>
                <a:latin typeface="Arial"/>
              </a:rPr>
              <a:t>1. Working toward better SDO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3600" spc="-1" strike="noStrike">
                <a:solidFill>
                  <a:srgbClr val="000000"/>
                </a:solidFill>
                <a:latin typeface="Arial"/>
              </a:rPr>
              <a:t>2. Working toward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From ”us” to ”the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-  Is there possibility for meaningfull participation on socie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Who are ”them” in Finland 2018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ose unemployed persons, those who needs activ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ylum seekers, those who are looking for social benefi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ose romani peopples, those one with just wrong hab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ose with addictions, the week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ame your own target? Can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ne invidual point of view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560240"/>
            <a:ext cx="9067680" cy="585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f you would be on wheelchair, could you participate on this course?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f you would be really stupid, could you participate on this course?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 reality, stupidity is a key factor on social exclusion. But we can not talk about it. We even do not have neutral term for stupid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 conclusion, society should be form in such a way, that also stupid inviduals have possibility for meaningfull participation on society.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8000"/>
          </a:bodyPr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lti-dimensional = moniulott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cial exclusion = syrjäy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eterminant = määräävä tekijä, vaikut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accurate = epätark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rticipation = osallistuminen, osallisu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henomenon = ilmi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clusion = johtopäätö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Glossary = san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7:56:56Z</dcterms:created>
  <dc:creator/>
  <dc:description/>
  <dc:language>en-US</dc:language>
  <cp:lastModifiedBy/>
  <dcterms:modified xsi:type="dcterms:W3CDTF">2018-02-18T12:07:57Z</dcterms:modified>
  <cp:revision>13</cp:revision>
  <dc:subject/>
  <dc:title/>
</cp:coreProperties>
</file>